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7FE-B536-4577-9197-A273D3DD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7BE-9E34-4F05-8AB1-96ADAF93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DFA-97AA-40DB-971B-7931D4DE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6C9-466E-4899-BE69-D0684B4B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F91-DA1D-49D7-A70A-D8CEBEFF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883-9FBD-4E4C-963E-DA4E252B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78E-A5F3-4F18-9D66-FEAED91B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805-FA6B-4988-92C1-F8795BD0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860-9163-4B0B-BBF3-55D954CA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F92-2600-4CBA-8752-02E4E1E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829-51DD-4A6D-8DCD-4A08534F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015-F0D0-49B4-936A-1C5F5C6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366C-E915-41F3-83C8-741FEB42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880" y="1389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-13320"/>
            <a:ext cx="8077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dding and Subtrac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dic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8000" y="1371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-3600"/>
            <a:ext cx="7772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dding and Subtrac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dical Expre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Adding and Subtracting Square-Root Express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51200" y="17845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00" y="236232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28840" y="2357280"/>
            <a:ext cx="1695240" cy="390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57200" y="3038400"/>
            <a:ext cx="1752840" cy="39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133720" y="3657600"/>
            <a:ext cx="923760" cy="39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160" y="42670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47920" y="4300560"/>
            <a:ext cx="31716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47920" y="5029200"/>
            <a:ext cx="29718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057400" y="5715000"/>
            <a:ext cx="1962000" cy="457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13280" y="49928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dentify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15800" y="579132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910040" y="3011400"/>
            <a:ext cx="3666960" cy="840960"/>
            <a:chOff x="4910040" y="3011400"/>
            <a:chExt cx="3666960" cy="84096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910040" y="3029040"/>
              <a:ext cx="16095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03760" y="3011400"/>
              <a:ext cx="207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he terms a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88400" y="3392640"/>
              <a:ext cx="18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like radical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76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77800" y="27828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12680" y="2133720"/>
            <a:ext cx="2235240" cy="459720"/>
            <a:chOff x="1012680" y="2133720"/>
            <a:chExt cx="2235240" cy="459720"/>
          </a:xfrm>
        </p:grpSpPr>
        <p:sp>
          <p:nvSpPr>
            <p:cNvPr id="114" name=""/>
            <p:cNvSpPr/>
            <p:nvPr/>
          </p:nvSpPr>
          <p:spPr>
            <a:xfrm>
              <a:off x="1012680" y="213372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600200" y="2143080"/>
              <a:ext cx="164772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1016280" y="4191120"/>
            <a:ext cx="2231640" cy="459720"/>
            <a:chOff x="1016280" y="4191120"/>
            <a:chExt cx="2231640" cy="45972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590480" y="4248000"/>
              <a:ext cx="165744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016280" y="419112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66800" y="4824360"/>
            <a:ext cx="1533600" cy="39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177800" y="4800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86000" y="5562720"/>
            <a:ext cx="609480" cy="399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638360" y="2819520"/>
            <a:ext cx="148572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2057400" y="3352680"/>
            <a:ext cx="619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76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354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39680" y="2376360"/>
            <a:ext cx="1724040" cy="39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7000" y="3048120"/>
            <a:ext cx="1609560" cy="390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806480" y="3724200"/>
            <a:ext cx="628920" cy="39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77800" y="30481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930240" y="4476600"/>
            <a:ext cx="2857680" cy="400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9880" y="43750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006560" y="5238720"/>
            <a:ext cx="2781360" cy="3999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175280" y="5181480"/>
            <a:ext cx="4266720" cy="828000"/>
            <a:chOff x="4175280" y="5181480"/>
            <a:chExt cx="4266720" cy="828000"/>
          </a:xfrm>
        </p:grpSpPr>
        <p:sp>
          <p:nvSpPr>
            <p:cNvPr id="135" name=""/>
            <p:cNvSpPr/>
            <p:nvPr/>
          </p:nvSpPr>
          <p:spPr>
            <a:xfrm>
              <a:off x="5683320" y="5181480"/>
              <a:ext cx="27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he terms are lik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4175280" y="5181480"/>
              <a:ext cx="140940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619160" y="554976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radical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181040" y="594360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486080" y="5924520"/>
            <a:ext cx="17143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205740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metimes radicals do not appear to be like until they are simplified, Simplify all radicals in an expression before trying to identify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Simplify Before Adding or Subtra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0400" y="1981080"/>
            <a:ext cx="47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2647800"/>
            <a:ext cx="1685880" cy="400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29160" y="32162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30240" y="41148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1680" y="4800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4920" y="541008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09800" y="3276720"/>
            <a:ext cx="2152440" cy="53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95480" y="4095720"/>
            <a:ext cx="200016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319040" y="4748040"/>
            <a:ext cx="1524240" cy="400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847880" y="5433840"/>
            <a:ext cx="4287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Simplify Before Adding or Subtra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0400" y="1981080"/>
            <a:ext cx="47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66840" y="2590920"/>
            <a:ext cx="2095560" cy="39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010040" y="3216240"/>
            <a:ext cx="512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11120" y="41148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12560" y="4800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10040" y="5410080"/>
            <a:ext cx="51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unlike radicals. Do not com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2685960" cy="390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143000" y="4800600"/>
            <a:ext cx="222876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324080" y="5562720"/>
            <a:ext cx="1876320" cy="390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38080" y="3429000"/>
            <a:ext cx="27910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C: Simplify Before Adding or Subtra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0400" y="1676520"/>
            <a:ext cx="47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46880" y="2971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46880" y="38098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46880" y="4572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46880" y="6019920"/>
            <a:ext cx="33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58164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4876920" cy="53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3843360"/>
            <a:ext cx="465768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05040" y="4557600"/>
            <a:ext cx="3895560" cy="476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914400" y="5305320"/>
            <a:ext cx="335268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076480" y="6019920"/>
            <a:ext cx="895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79320" y="2587680"/>
            <a:ext cx="7855200" cy="1282680"/>
            <a:chOff x="679320" y="2587680"/>
            <a:chExt cx="7855200" cy="1282680"/>
          </a:xfrm>
        </p:grpSpPr>
        <p:sp>
          <p:nvSpPr>
            <p:cNvPr id="176" name=""/>
            <p:cNvSpPr/>
            <p:nvPr/>
          </p:nvSpPr>
          <p:spPr>
            <a:xfrm>
              <a:off x="685800" y="304488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hen you write a radicand as a product, make at least one factor a perfect squa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9320" y="2587680"/>
              <a:ext cx="243864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3080" y="14796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1685880" cy="400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629160" y="32162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0240" y="41148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1680" y="4800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4920" y="541008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66680" y="3162240"/>
            <a:ext cx="2190960" cy="533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2057400" cy="399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1371600" y="4781520"/>
            <a:ext cx="1562040" cy="399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828800" y="5410080"/>
            <a:ext cx="6192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43080" y="14796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2266920"/>
            <a:ext cx="1876680" cy="399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29160" y="2911320"/>
            <a:ext cx="51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30240" y="38098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1680" y="4552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29160" y="5197320"/>
            <a:ext cx="55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unlike radicals. Do not com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1960" y="2971800"/>
            <a:ext cx="2257560" cy="533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85800" y="3800520"/>
            <a:ext cx="2143080" cy="390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09480" y="4562640"/>
            <a:ext cx="1981440" cy="466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914400" y="5400720"/>
            <a:ext cx="1657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676520"/>
            <a:ext cx="8076960" cy="3657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1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1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y 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y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3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+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805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15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 + 3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471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42242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 –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 +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067280"/>
            <a:ext cx="1790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43080" y="14796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133360" cy="457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2571480" cy="533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43864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76240" y="4800600"/>
            <a:ext cx="1943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1523880" y="5562720"/>
            <a:ext cx="809640" cy="457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29160" y="29718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0240" y="39625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1680" y="4800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4920" y="556272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Geometry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45728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nd the perimeter of the triangle. Give the answer as a radical expression in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89240" y="313380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an expression for peri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0680" y="375120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20 using a perfect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90320" y="43527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4352760"/>
            <a:ext cx="2819160" cy="40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19160" y="3681360"/>
            <a:ext cx="2867040" cy="533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90720" y="3157560"/>
            <a:ext cx="2600280" cy="39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133960" y="1419120"/>
            <a:ext cx="4010040" cy="1486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091760" y="4930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95000" y="549576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1025640" y="4943520"/>
            <a:ext cx="2904840" cy="476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486080" y="6105600"/>
            <a:ext cx="1485720" cy="399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4143240" y="5952960"/>
            <a:ext cx="4924440" cy="581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1200240" y="5562720"/>
            <a:ext cx="230508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1403280"/>
            <a:ext cx="8534520" cy="1191240"/>
            <a:chOff x="457200" y="1403280"/>
            <a:chExt cx="8534520" cy="1191240"/>
          </a:xfrm>
        </p:grpSpPr>
        <p:sp>
          <p:nvSpPr>
            <p:cNvPr id="228" name=""/>
            <p:cNvSpPr/>
            <p:nvPr/>
          </p:nvSpPr>
          <p:spPr>
            <a:xfrm>
              <a:off x="457200" y="140328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ind the perimeter of a rectangle whose length is        inches and whose width is        inches. Give your answer as a radical expression in simplest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914400" y="1814400"/>
              <a:ext cx="62856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6276960" y="1795320"/>
              <a:ext cx="61920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352680" y="2743200"/>
            <a:ext cx="2805120" cy="1143000"/>
            <a:chOff x="3352680" y="2743200"/>
            <a:chExt cx="2805120" cy="1143000"/>
          </a:xfrm>
        </p:grpSpPr>
        <p:sp>
          <p:nvSpPr>
            <p:cNvPr id="232" name=""/>
            <p:cNvSpPr/>
            <p:nvPr/>
          </p:nvSpPr>
          <p:spPr>
            <a:xfrm>
              <a:off x="3352680" y="2743200"/>
              <a:ext cx="21337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4267080" y="3543480"/>
              <a:ext cx="58104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5576760" y="2933640"/>
              <a:ext cx="5810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3657600" y="3900600"/>
            <a:ext cx="48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an expression for perimeter 2 (l + 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8320" y="457200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each term by 2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533520" y="4587840"/>
            <a:ext cx="2533680" cy="476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533520" y="3886200"/>
            <a:ext cx="2209680" cy="581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990720" y="5176800"/>
            <a:ext cx="1600200" cy="399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60120" y="51055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9560" y="6095880"/>
            <a:ext cx="3643200" cy="459720"/>
            <a:chOff x="529560" y="6095880"/>
            <a:chExt cx="3643200" cy="459720"/>
          </a:xfrm>
        </p:grpSpPr>
        <p:sp>
          <p:nvSpPr>
            <p:cNvPr id="242" name=""/>
            <p:cNvSpPr/>
            <p:nvPr/>
          </p:nvSpPr>
          <p:spPr>
            <a:xfrm>
              <a:off x="529560" y="6095880"/>
              <a:ext cx="36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erimeter is           i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8"/>
            <a:stretch/>
          </p:blipFill>
          <p:spPr>
            <a:xfrm>
              <a:off x="2881080" y="6095880"/>
              <a:ext cx="80928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447920" y="5629320"/>
            <a:ext cx="780840" cy="390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663360" y="557208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40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840" y="17845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4720" y="22860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0560" y="28954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038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960" y="35053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960" y="46483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3040" y="533412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68400" y="2286000"/>
            <a:ext cx="1942920" cy="399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216240" y="2286000"/>
            <a:ext cx="838080" cy="399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006560" y="2924280"/>
            <a:ext cx="1790640" cy="399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178080" y="2924280"/>
            <a:ext cx="1790640" cy="399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1082520" y="3505320"/>
            <a:ext cx="5124600" cy="457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6477120" y="3486240"/>
            <a:ext cx="266688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1066680" y="4705200"/>
            <a:ext cx="1952640" cy="400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3352680" y="4695840"/>
            <a:ext cx="609840" cy="390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9"/>
          <a:stretch/>
        </p:blipFill>
        <p:spPr>
          <a:xfrm>
            <a:off x="1081080" y="5334120"/>
            <a:ext cx="416232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0"/>
          <a:stretch/>
        </p:blipFill>
        <p:spPr>
          <a:xfrm>
            <a:off x="5514840" y="5334120"/>
            <a:ext cx="2638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990960" cy="2952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2120" y="1676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nd the perimeter of the trapezoid. Give the answer as a radical expression is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371600" y="2619360"/>
            <a:ext cx="1562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19320"/>
            <a:ext cx="8076960" cy="4038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. All variables represent nonnegativ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43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457440"/>
            <a:ext cx="1238400" cy="581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933560" y="2743200"/>
            <a:ext cx="73332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457360" y="3543480"/>
            <a:ext cx="1352520" cy="49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362320" y="4181400"/>
            <a:ext cx="135252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914400" y="426708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362320"/>
            <a:ext cx="80773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and subtract radical expre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362320"/>
            <a:ext cx="76201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ke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1844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quare-root expressions with the same radicand are example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ke radica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5120" y="3219480"/>
            <a:ext cx="86392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080" y="1371600"/>
            <a:ext cx="88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ike radicals can be combined by adding or subtracting. You can use the Distributive Property to show how this is d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98720" y="2743200"/>
            <a:ext cx="679104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95480" y="3657600"/>
            <a:ext cx="7057800" cy="685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6120" y="4680000"/>
            <a:ext cx="87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Notice that you can combine like radicals by adding or subtracting the numbers multiplied by the radical and keeping the radical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679320" y="2308320"/>
            <a:ext cx="7854840" cy="2399760"/>
            <a:chOff x="679320" y="2308320"/>
            <a:chExt cx="7854840" cy="2399760"/>
          </a:xfrm>
        </p:grpSpPr>
        <p:grpSp>
          <p:nvGrpSpPr>
            <p:cNvPr id="78" name=""/>
            <p:cNvGrpSpPr/>
            <p:nvPr/>
          </p:nvGrpSpPr>
          <p:grpSpPr>
            <a:xfrm>
              <a:off x="679320" y="2308320"/>
              <a:ext cx="7854840" cy="2399760"/>
              <a:chOff x="679320" y="2308320"/>
              <a:chExt cx="7854840" cy="2399760"/>
            </a:xfrm>
          </p:grpSpPr>
          <p:sp>
            <p:nvSpPr>
              <p:cNvPr id="79" name=""/>
              <p:cNvSpPr/>
              <p:nvPr/>
            </p:nvSpPr>
            <p:spPr>
              <a:xfrm>
                <a:off x="685440" y="2770200"/>
                <a:ext cx="7848720" cy="1937880"/>
              </a:xfrm>
              <a:prstGeom prst="rect">
                <a:avLst/>
              </a:prstGeom>
              <a:noFill/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Combining like radicals is similar to combining like terms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9320" y="2308320"/>
                <a:ext cx="2743200" cy="459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Helpful Hi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3619440" y="3298680"/>
              <a:ext cx="2514600" cy="81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Adding and Subtracting Square-Root Express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51200" y="17845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60400" y="2362320"/>
            <a:ext cx="2263680" cy="459720"/>
            <a:chOff x="860400" y="2362320"/>
            <a:chExt cx="2263680" cy="4597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447920" y="2390760"/>
              <a:ext cx="16761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60400" y="2362320"/>
              <a:ext cx="66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1562040" cy="39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33720" y="3714840"/>
            <a:ext cx="590400" cy="399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25160" y="30114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0400" y="4343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500120" y="4371840"/>
            <a:ext cx="17528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523880" y="5105520"/>
            <a:ext cx="1638360" cy="45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22640" y="499284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unlike radicals. Do not comb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4:48:16Z</dcterms:modified>
  <cp:revision>281</cp:revision>
  <dc:subject/>
  <dc:title>Slide 1</dc:title>
</cp:coreProperties>
</file>